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EBC-78A0-4C19-B804-B71DC6B7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96A-3BDC-4CFA-8F28-6099F05B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EEE-61FA-4728-B1E0-2751C1B0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D82-CE7A-4121-A058-6AFF0330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3BC-E8EF-48F4-B12F-61F86F30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42B5-4EB9-456E-99FF-924AB872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4B4-119E-4C31-B435-C5AEF267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8811-8A32-41A9-91F8-2CA2497E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7BE1-91C9-4F2F-861A-DF8FEFD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D771-0F12-4168-8A28-3EB1033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EE94-11AA-4297-A2E5-DE55ECE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825-B996-419A-BF86-C8EBD409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3BE2-FD52-4265-9928-FD17408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C2D-5486-4E81-9FC7-673E502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E4A5-CADA-4C4C-9931-B48D7F70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2FE8-6B1E-4597-B8ED-65B2E52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BDBB-8514-4DBD-B6DD-0481940B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53B-6951-413F-9F9C-38EF070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E4B-AEE6-44A8-81C5-283EF0D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397-F3F4-4722-81D3-16500C08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2FA-6BA6-4372-BCA4-57A1E6E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AAE-1256-418E-87CB-51191CB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F52-8E6F-44E1-9F2D-F55D924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5B0-4D93-4B8B-995C-64D745D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F235-9241-4B24-8822-EE4279C080D6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F181-1366-49FF-B620-6C7C6ADA4F8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Gestion des projet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ou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rebuchet MS"/>
              </a:rPr>
              <a:t>Délibér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5056200" y="5002200"/>
            <a:ext cx="4087800" cy="1855440"/>
            <a:chOff x="5056200" y="5002200"/>
            <a:chExt cx="4087800" cy="1855440"/>
          </a:xfrm>
        </p:grpSpPr>
        <p:cxnSp>
          <p:nvCxnSpPr>
            <p:cNvPr id="85" name=""/>
            <p:cNvCxnSpPr/>
            <p:nvPr/>
          </p:nvCxnSpPr>
          <p:spPr>
            <a:xfrm flipV="1">
              <a:off x="701172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82964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5056200" y="5141880"/>
              <a:ext cx="2289240" cy="1715760"/>
              <a:chOff x="5056200" y="5141880"/>
              <a:chExt cx="2289240" cy="1715760"/>
            </a:xfrm>
          </p:grpSpPr>
          <p:pic>
            <p:nvPicPr>
              <p:cNvPr id="8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620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8692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12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91" name=""/>
            <p:cNvCxnSpPr/>
            <p:nvPr/>
          </p:nvCxnSpPr>
          <p:spPr>
            <a:xfrm>
              <a:off x="607680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658476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179280" y="4581360"/>
            <a:ext cx="4105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Gestion des projets de lo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ou délibér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981080"/>
            <a:ext cx="5410080" cy="58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 Présentation du cyc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895480"/>
            <a:ext cx="5410080" cy="604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 Déroulement des opé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5410080" cy="6271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. Les apports du logici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724280"/>
            <a:ext cx="5410080" cy="6494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Conclus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564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ebuchet MS"/>
              </a:rPr>
              <a:t>Cycle de vie d’un proj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341360"/>
            <a:ext cx="1873440" cy="1656000"/>
          </a:xfrm>
          <a:prstGeom prst="ellipse">
            <a:avLst/>
          </a:prstGeom>
          <a:gradFill rotWithShape="0">
            <a:gsLst>
              <a:gs pos="0">
                <a:srgbClr val="c0e5e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637000"/>
            <a:ext cx="1873080" cy="1728720"/>
          </a:xfrm>
          <a:prstGeom prst="ellipse">
            <a:avLst/>
          </a:prstGeom>
          <a:gradFill rotWithShape="0">
            <a:gsLst>
              <a:gs pos="0">
                <a:srgbClr val="e5f2f3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508640"/>
            <a:ext cx="1871640" cy="1800000"/>
          </a:xfrm>
          <a:prstGeom prst="ellipse">
            <a:avLst/>
          </a:prstGeom>
          <a:gradFill rotWithShape="0">
            <a:gsLst>
              <a:gs pos="0">
                <a:srgbClr val="cccce5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933720"/>
            <a:ext cx="1779840" cy="1800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700280"/>
            <a:ext cx="1751040" cy="1752480"/>
          </a:xfrm>
          <a:prstGeom prst="ellipse">
            <a:avLst/>
          </a:prstGeom>
          <a:gradFill rotWithShape="0">
            <a:gsLst>
              <a:gs pos="0">
                <a:srgbClr val="e5f1c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0640" y="306864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Projet vali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Rejeté  ou </a:t>
            </a:r>
            <a:br>
              <a:rPr sz="1800"/>
            </a:b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rediscu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84120" y="19162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05640" y="2349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22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Ord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du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a3fb"/>
                </a:solidFill>
                <a:latin typeface="Verdana"/>
              </a:rPr>
              <a:t>Co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01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Sé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Verdana"/>
              </a:rPr>
              <a:t>et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628640"/>
            <a:ext cx="151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0"/>
          </p:cNvCxnSpPr>
          <p:nvPr/>
        </p:nvCxnSpPr>
        <p:spPr>
          <a:xfrm flipH="1">
            <a:off x="178560" y="1628280"/>
            <a:ext cx="201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237960" y="1197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pô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042560" y="4221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50920" y="4869000"/>
            <a:ext cx="1728720" cy="15127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70120" y="4149720"/>
            <a:ext cx="1973880" cy="1939680"/>
            <a:chOff x="7170120" y="4149720"/>
            <a:chExt cx="1973880" cy="193968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8077320" y="466236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170120" y="4149720"/>
              <a:ext cx="117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99"/>
                  </a:solidFill>
                  <a:latin typeface="Arial"/>
                </a:rPr>
                <a:t>Règ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99"/>
                  </a:solidFill>
                  <a:latin typeface="Arial"/>
                </a:rPr>
                <a:t>Mé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467480" y="502272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ebuchet MS"/>
              </a:rPr>
              <a:t>Dépôt du Proje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38320" y="3414600"/>
            <a:ext cx="876240" cy="89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5640" y="3429000"/>
            <a:ext cx="2952720" cy="28796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2881080" cy="2879640"/>
          </a:xfrm>
          <a:custGeom>
            <a:avLst/>
            <a:gdLst>
              <a:gd name="textAreaLeft" fmla="*/ 0 w 2881080"/>
              <a:gd name="textAreaRight" fmla="*/ 2881440 w 288108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429000"/>
            <a:ext cx="3143160" cy="287964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0a3fb"/>
              </a:gs>
              <a:gs pos="100000">
                <a:srgbClr val="584b73"/>
              </a:gs>
            </a:gsLst>
            <a:lin ang="54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835280" y="119628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1484280"/>
            <a:ext cx="2087640" cy="99072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789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933720"/>
            <a:ext cx="230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réa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’ordr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u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86064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vocation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e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3860640"/>
            <a:ext cx="251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projet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daction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cès 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619280" y="5229360"/>
            <a:ext cx="876240" cy="89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516720" y="5316480"/>
            <a:ext cx="996840" cy="1541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140360" y="5373720"/>
            <a:ext cx="830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ebuchet MS"/>
              </a:rPr>
              <a:t>Les avantages de Papyru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63118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59400" y="275904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75904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540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12040" y="1265040"/>
            <a:ext cx="6437160" cy="1387800"/>
            <a:chOff x="1112040" y="1265040"/>
            <a:chExt cx="6437160" cy="1387800"/>
          </a:xfrm>
        </p:grpSpPr>
        <p:sp>
          <p:nvSpPr>
            <p:cNvPr id="144" name=""/>
            <p:cNvSpPr/>
            <p:nvPr/>
          </p:nvSpPr>
          <p:spPr>
            <a:xfrm rot="3418800">
              <a:off x="1322640" y="148968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286360" y="1661760"/>
              <a:ext cx="931680" cy="131760"/>
              <a:chOff x="2286360" y="1661760"/>
              <a:chExt cx="931680" cy="1317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8636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7564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7692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5288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rot="3418800">
              <a:off x="304380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007880" y="1661760"/>
              <a:ext cx="931680" cy="131760"/>
              <a:chOff x="4007880" y="1661760"/>
              <a:chExt cx="931680" cy="131760"/>
            </a:xfrm>
          </p:grpSpPr>
          <p:sp>
            <p:nvSpPr>
              <p:cNvPr id="152" name=""/>
              <p:cNvSpPr/>
              <p:nvPr/>
            </p:nvSpPr>
            <p:spPr>
              <a:xfrm>
                <a:off x="400788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9716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9844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7440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3418800">
              <a:off x="469332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729040" y="1661760"/>
              <a:ext cx="1218240" cy="131760"/>
              <a:chOff x="5729040" y="1661760"/>
              <a:chExt cx="1218240" cy="131760"/>
            </a:xfrm>
          </p:grpSpPr>
          <p:sp>
            <p:nvSpPr>
              <p:cNvPr id="158" name=""/>
              <p:cNvSpPr/>
              <p:nvPr/>
            </p:nvSpPr>
            <p:spPr>
              <a:xfrm>
                <a:off x="5729040" y="166176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45680" y="166284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62600" y="166392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61960" y="170496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3418800">
              <a:off x="641448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3440" y="1700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ac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1700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ap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5080" y="17002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ç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7800" y="1700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3063960"/>
            <a:ext cx="12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interface t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iv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30686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tâ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n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stid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3068640"/>
            <a:ext cx="14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rou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ment u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un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2997360"/>
            <a:ext cx="151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fa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rou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 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56200" y="5002200"/>
            <a:ext cx="4087800" cy="1855440"/>
            <a:chOff x="5056200" y="5002200"/>
            <a:chExt cx="4087800" cy="1855440"/>
          </a:xfrm>
        </p:grpSpPr>
        <p:cxnSp>
          <p:nvCxnSpPr>
            <p:cNvPr id="172" name=""/>
            <p:cNvCxnSpPr/>
            <p:nvPr/>
          </p:nvCxnSpPr>
          <p:spPr>
            <a:xfrm flipV="1">
              <a:off x="701172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82964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5056200" y="5141880"/>
              <a:ext cx="2289240" cy="1715760"/>
              <a:chOff x="5056200" y="5141880"/>
              <a:chExt cx="2289240" cy="1715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5620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8692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2412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78" name=""/>
            <p:cNvCxnSpPr/>
            <p:nvPr/>
          </p:nvCxnSpPr>
          <p:spPr>
            <a:xfrm>
              <a:off x="607680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>
              <a:off x="658476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9:57:58Z</dcterms:created>
  <dc:creator>PB</dc:creator>
  <dc:description/>
  <cp:keywords/>
  <dc:language>en-US</dc:language>
  <cp:lastModifiedBy>Patrick</cp:lastModifiedBy>
  <dcterms:modified xsi:type="dcterms:W3CDTF">2010-03-14T18:36:04Z</dcterms:modified>
  <cp:revision>17</cp:revision>
  <dc:subject/>
  <dc:title>Cliquer pour ajouter un ti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6</vt:lpwstr>
  </property>
</Properties>
</file>